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381400"/>
            <a:ext cx="914400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Unternehmerisc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Handel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001600"/>
            <a:ext cx="860436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Das stammesgeschichtliche Erbe des Menschen umfas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bestimmte vorprogrammierte Verhaltensdisposi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001600"/>
            <a:ext cx="860436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Das stammesgeschichtliche Erbe des Menschen umfas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bestimmte vorprogrammierte Verhaltensdisposi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usgeprägtes Trieb- und Instinkt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2001600"/>
            <a:ext cx="860436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Das stammesgeschichtliche Erbe des Menschen umfas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bestimmte vorprogrammierte Verhaltensdisposi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usgeprägtes Trieb- und Instinkt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iebhandlungen abh. von innerer Triebstärke und/o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äußeren Rei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001600"/>
            <a:ext cx="860436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333399"/>
                </a:solidFill>
                <a:uFillTx/>
                <a:latin typeface="Arial"/>
              </a:rPr>
              <a:t>Das stammesgeschichtliche Erbe des Menschen umfas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333399"/>
                </a:solidFill>
                <a:uFillTx/>
                <a:latin typeface="Arial"/>
              </a:rPr>
              <a:t>bestimmte vorprogrammierte Verhaltensdisposi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usgeprägtes Trieb- und Instinkt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Triebhandlungen abh. von innerer Triebstärke und/o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äußeren Rei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ppetenzverhalten (aktive Suche nach auslösend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eizen bei steigender Triebstär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001600"/>
            <a:ext cx="860436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333399"/>
                </a:solidFill>
                <a:uFillTx/>
                <a:latin typeface="Arial"/>
              </a:rPr>
              <a:t>Das stammesgeschichtliche Erbe des Menschen umfas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333399"/>
                </a:solidFill>
                <a:uFillTx/>
                <a:latin typeface="Arial"/>
              </a:rPr>
              <a:t>bestimmte vorprogrammierte Verhaltensdisposi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usgeprägtes Trieb- und Instinkt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Triebhandlungen abh. von innerer Triebstärke und/o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äußeren Rei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ppetenzverhalten (aktive Suche nach auslösend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eizen bei steigender Triebstär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ggress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001600"/>
            <a:ext cx="860436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333399"/>
                </a:solidFill>
                <a:uFillTx/>
                <a:latin typeface="Arial"/>
              </a:rPr>
              <a:t>Das stammesgeschichtliche Erbe des Menschen umfass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 u="sng">
                <a:solidFill>
                  <a:srgbClr val="333399"/>
                </a:solidFill>
                <a:uFillTx/>
                <a:latin typeface="Arial"/>
              </a:rPr>
              <a:t>bestimmte vorprogrammierte Verhaltensdisposition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usgeprägtes Trieb- und Instinkt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Triebhandlungen abh. von innerer Triebstärke und/o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äußeren Rei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ppetenzverhalten (aktive Suche nach auslösend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Reizen bei steigender Triebstär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ggress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npassung der Triebe und Instinkte an die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814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rwartungshaltu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ust ohne Anstren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ngew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mäß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9152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e Lös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ust durch Anstreng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ust auf Leist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91880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333399"/>
                </a:solidFill>
                <a:uFillTx/>
                <a:latin typeface="Arial"/>
              </a:rPr>
              <a:t>Aufgaben evolutionärer Führ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Gestaltung der Arbeitswelt, um Flow zu ermögl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(Gefühl der totalen Hingabe an eine Tä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&gt; Sicherheit und Kompetenz vermit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&gt; Freiräume für Eigenverantwortung und Kreativ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&gt; Neue Aufgaben, Ausweitung der Arbeitsbere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508428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Der Führungsmana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28760" y="1109520"/>
            <a:ext cx="67723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91880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ufgaben evolutionärer Führ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 Organisation von An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Rangordnung, Positionsstruktur (Hierarchie, Mac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ezahlung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Organisiertes Belohnungs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Persönliche An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91268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ufgaben evolutionärer Führ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. Herstellung von Bi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Gemeinsame Arbeit in Gruppe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Konkurrenz in der Gruppe positiv kanalis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Identifikation mit dem Geleist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91232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ufgaben evolutionärer Führ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. Gerechtigkeit der Fü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Del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Vermeidung von Anstrengung ohne Lust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Lustabschöpf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Verhaltensbiologie /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913040"/>
            <a:ext cx="87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ufgaben evolutionärer Führ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. Einforderung von Tug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Zuverlässigkeit und Verlässlich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Pflichterfüllung, Pünktlichkeit, Ausdau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46836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ufgaben evolutionärer 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369160"/>
            <a:ext cx="87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1. Gestaltung der Arbeitswelt, um Flow zu ermögl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(Gefühl der totalen Hingabe an eine Tä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2. Organisation von Anerk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3. Herstellung von Bi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4. Gerechtigkeit der Füh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8000"/>
                </a:solidFill>
                <a:latin typeface="Arial"/>
              </a:rPr>
              <a:t>5. Einforderung von Tug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903320"/>
            <a:ext cx="86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Was zeichnet unternehmerisch handelnde Mitarbei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 Eigene Ideen einbringen und vorantrei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 Erfolgsrelevante Talente haben und ausbau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 M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 Verantwortung übernehmen und t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 Konflikte und Probleme sachlich lö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755720"/>
            <a:ext cx="8604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Welche Kultur fördert bei allen Beteiligte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unternehmerisches Handel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&gt; Den Werten der Mitarbeiter entgegenkom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&gt; Zeiten der Veränderung sind Zeiten für Unternehmer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&gt; Angstfreies Arbeitskl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&gt; Kultur der Problemlösung sch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&gt; Eigentum motiviert zu Leis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&gt; Unternehmerisches Verhalten m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626840"/>
            <a:ext cx="8604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Wie erreichen wir, dass möglichst viele Mitarbei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ihren Job mit „totaler Hingabe“ ang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gt; Sicherer Arbeitsplatz mit Freirä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keine Sorgen um sich selb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gt;  Möglichkeit schaffen, sich Kompetenzen anzueig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erworbene Autoritä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gt; Anerkennung organisieren, Feedback 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gt; Gemeinsame Arbeit in Gru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gt; Gerechte Führung (ohne Lustabschöpf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&gt; Tugenden einfordern (Verlässlichkeit, Pünktlichkeit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984320"/>
            <a:ext cx="86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 Wie kann unternehmerisches Verhalten gemess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wer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Kundenzufried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Mitarbeiterzufried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Monetärer Ergebnisbeitrag (Umsatz, Profit, Kosten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Verantwortungsübernah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gt; Innovationsfähigkei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381400"/>
            <a:ext cx="914400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Unternehmerisc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Handel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923840"/>
            <a:ext cx="860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Wie bekommen wir zufriedene „Unternehmer- Mitarbeiter“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&gt; Am Gewinn/Wachstum beteil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&gt; Betroffene zu Beteiligten m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&gt; In Entscheidungsprozesse einbi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&gt; Entscheidungsbereitschaft för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&gt; Mit-inform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&gt; Perspektiven aufze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&gt; Konsequenz und Disziplin vorl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381400"/>
            <a:ext cx="914400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Unternehmerisc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Handel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122200"/>
            <a:ext cx="8604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as zeichnet unternehmerisch handelnde Mitarbeiter a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122200"/>
            <a:ext cx="8604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as zeichnet unternehmerisch handelnde Mitarbeiter a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 Welche Kultur fördert bei allen Beteiligten unternehmerisches Handel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122200"/>
            <a:ext cx="8604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as zeichnet unternehmerisch handelnde Mitarbeiter a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 Welche Kultur fördert bei allen Beteiligten unternehmerisches Handel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 Wie erreichen wir, dass möglichst viele Mitarbeiter i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Job mit „totaler Hingabe“ angeh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122200"/>
            <a:ext cx="8604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as zeichnet unternehmerisch handelnde Mitarbeiter a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 Welche Kultur fördert bei allen Beteiligten unternehmerisches Handel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 Wie erreichen wir, dass möglichst viele Mitarbeiter i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Job mit „totaler Hingabe“ angeh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4. Wie kann unternehmerisches Verhalten gemessen we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34920" y="6922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ternehmerisch Handel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2560" y="265608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122200"/>
            <a:ext cx="8604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as zeichnet unternehmerisch handelnde Mitarbeiter au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 Welche Kultur fördert bei allen Beteiligten unternehmerisches Handel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 Wie erreichen wir, dass möglichst viele Mitarbeiter i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Job mit „totaler Hingabe“ angeh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4. Wie kann unternehmerisches Verhalten gemessen werde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5. Wie bekommen wir zufriedene „Unternehmer-Mitarbeiter“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Prof. Christoph Ewert</cp:lastModifiedBy>
  <dcterms:modified xsi:type="dcterms:W3CDTF">2007-02-21T20:43:52Z</dcterms:modified>
  <cp:revision>47</cp:revision>
  <dc:subject/>
  <dc:title>Folie 1</dc:title>
</cp:coreProperties>
</file>